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3F21-1688-499B-A24C-116C8AB6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4F10-967C-40BE-A3A9-925B8565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F882-C8CA-4919-B5FC-CBE8AB8C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576E-9ED4-4ED3-8464-2CD8CB0E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5113-E824-441A-832E-158ADA0E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0D0A-F609-4EC6-BA9E-DFCD2C8B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71F3-05DD-407F-900D-06594F8F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36ED-D9B0-48CF-BC3E-AE03D245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E158-6C01-4D93-A4C5-C688EFBE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6861-767F-4E5A-8197-45B42568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6D01-EA11-4572-808A-5C76EA3C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2E54-BF10-4162-99C1-D754420E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0771-A1A9-41A8-8DDB-EB04F8DD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FDE4-56EC-4DE8-B14E-F41B1961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E863-6DD7-4DFD-A582-C08B8E68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7D27-571D-40BA-89D9-2A554F51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87AD-0A01-4000-AAA4-E3B94C03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EBEA-122C-4263-93A8-4EFB8FC5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45C7-7292-4EA7-B9AC-547E079D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8C8E-3311-4706-B33C-472CC132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0694-E402-4198-8E99-249D64EA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07D9-2CB4-4D09-A52A-EBA79F42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4E42-5785-422A-85F0-DC9C0BD4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9C5B-2872-4461-AB00-636B355A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CE4D-FF92-4C4B-985C-3B5F0298006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1343-782B-4A69-913B-2FA2046640D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1-01-29T05:53:42Z</dcterms:modified>
  <cp:revision>46</cp:revision>
  <dc:subject/>
  <dc:title>Структура собственных доходов на 2016 год бюджета Дальнереченского городского округа</dc:title>
</cp:coreProperties>
</file>